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5B76-7E33-4CE5-A344-F424956F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6AE4-678D-4E71-9B44-6F5EBB43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A1522-4827-4E42-8B19-692F1E82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62E67-7873-4749-A963-85E38113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0150C-10CE-44B4-8D92-BCC201C3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DFB1A-1755-403C-9F92-2911A8D5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B6B81-8309-4554-9BDF-5E722C0D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8F53B-8160-49AC-B335-FA1D54F5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E35D6-F05E-4999-9936-756EDBF5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A4982-B74E-4E70-B122-6E7C7877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02E15-F520-4BF8-BF64-12B1676D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C173B-A314-4A8A-A514-8F0CE4F2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51A0-5D7D-4A36-8894-3E7B6B40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66CFF-246D-4525-A696-3C61A172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F1486-CBD5-4E72-BE10-1071280E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08FFB-B6BA-4941-B7BE-CCF5B9A4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45B07-357A-40E5-9F05-8F8F8AD2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EB758-9CAE-4252-B6FC-FD3AA9A4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47989-7ED6-4358-8500-273F3D41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2BF13-D853-4BFA-85B8-E98AE404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57C32-6546-48FD-B5DF-4886A659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D2ADE-F335-49B9-B5A7-8BE2D4C8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271B6-727B-4312-A158-C580EC63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6CC1-6BE0-49E1-93E4-9A152E28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38A6B-A44B-4A25-ADA2-A31230F0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4BAA7-B14D-4E75-BCF5-C8156680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BF67B-01A6-4C82-8181-FBA8953A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C7672-C417-49BD-9711-CDC959E1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3D137-824B-4A3D-9607-00887D54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DEEE0-E370-41BC-BFEC-2AD45C50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108BE-E3A2-4649-9A8E-8F58293D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A713F-6BBB-4187-9F3B-381E5B36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57599-DD10-4EEA-948F-21D8C75D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75355-752B-42D7-8AA6-E6482935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E641-21DD-41C4-A798-E13E9ACE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06C3E-7A5E-4B56-A1A1-5D9036C3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F59F9-EF72-46EA-A07B-265491CA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6F12F-4033-4C41-AE05-95CE77CB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ED43E-AA3B-43D1-9F84-5F22A84F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55B67-8D63-451B-803E-B9525340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74423-BD2A-4D2F-85AB-B13105C1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D6239-D6BD-4D75-8CB7-7C2116BF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D8F44-C466-4F7D-A038-D09FA0FB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6165A-C6F9-438D-88B3-45620A10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FC08C-4726-4ACF-89FC-CA9B7597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0D7D-1DA7-4A40-9B52-8AE88E14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6EF1A-A772-46D3-8DD6-94A1749F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D7315-8938-4A67-AD6A-6A98D5C1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B0306-A096-4D70-B8E0-220F4B99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407E0-E644-4C27-AF20-F46B842A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13531-8327-4CFF-AEF9-65A878F5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5FF35A-E6B6-4E21-8637-18FABB9F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80B77C-869E-4348-BBAF-ADC5BC04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F5FE8F-C7F7-453F-AEE1-5B00A532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D5CCEB-50A1-47A7-81A4-38965F36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7A0382-23D9-4C36-B1F7-76151CED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F74C-BB06-4B4B-AE47-E121DF1C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CDE9A-4BC1-48A3-9E4C-6530A13A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E0D067-2880-4BD3-8381-9A78C4CA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2A390-47A6-47B8-A807-DDA7B8C6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1C8392-FDEB-40C3-AF05-1F1DEA22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E64B06-9006-4202-8726-2C2E0505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6A0005-CC95-400F-AD5B-36B6498B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8CC1DC-192E-4C4D-B720-A2E31128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B241BC-B089-4098-95B8-67ACCC81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6C6ED9-4055-404D-830F-48F01A1B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BA106E-2CDC-40F8-8C77-3C3DDBBF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AD54-4303-482B-A86A-C1B90D16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F051EB-BCBF-42E6-91B8-532AB0E9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D17967-E79E-457B-BA3D-AB06B01A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A08FDD-7CC1-40B0-96EF-2707E830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5ED167-83DD-44A7-8F71-619AAD79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94E9CD-9AA7-43EB-A7C1-FBC60B8A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F91BAB-AE29-4C88-A003-77DE493F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EB1583-6124-4137-AD1B-E10FCEC0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4B554D-0470-4B80-AC65-88B5E664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6640E1-C93B-4649-A6C5-60E85AF1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126AFB-DAB3-44AD-B2B7-660F8C3F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638B-C420-4389-AD48-2C24ADE2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4F897C-D94E-45EE-8A8D-6BE81AC3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939BE8-5D65-475A-87F1-5491FA87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EE22C4-507B-49F9-AB4E-3683C7E8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3B21B7-428B-4544-A456-D47FF472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9ADD87-0190-4A4F-9EA2-585D100C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F80B3F-4733-4053-B30D-11BE1B1D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6BD6FB-EE99-46BB-8D2D-7BFE581C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DD4E83-2114-42FB-8EE2-FB140C75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160A89-26AC-47FB-A89B-1B67EC6F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8D3232-CF13-403A-9438-04EFAE7C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A2C5-36F2-4DA4-9EFB-1F1744F9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E1A030-B3D1-413E-BA60-83E64921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81D469-10A6-4278-B1F0-5F615F68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8FB38D-4668-49D4-8F87-BBD39528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5FC8BA-1DCC-4E3F-A28E-BB36FFB8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AFA728-3764-4001-9DCD-E388B6E2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908B70-2606-4779-9EB9-E5BB8B99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BAE1EA-23BB-47EA-8559-3DFFF0F0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31D82C-3BF7-4E6D-AEBA-B464B131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A7FC31-659B-4B45-AE3D-A5E7D970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57F33A-18BC-4E56-9D41-8092B28E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F06D-419D-4E4A-89F6-3C96A1FC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C9E8EB-66BD-4E82-8ACF-7141C2F6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BE0CE3-A17B-457E-969C-95E7108F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8277C5-9B46-46F0-9906-C3594F72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94E211-A2FC-4568-9502-2467032C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F5ECC6-2010-4EAF-9AA4-A43E9954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03B054-C2BA-44A9-857D-07240772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5A2E08-BA0E-4B5B-BA5A-4B0EFB0D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BD3017-59CE-4200-B927-D958322E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A59F5F-BA20-40DB-9E04-68948277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B25DE9-F578-4F4D-AFE4-4654F79A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A1BB-2ACB-462B-91E7-37D1A54D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7E5A-0D7B-457B-8FDC-40A654FC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2655F2-3F31-486C-A105-047C1862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589423-5B9B-48B0-8C8C-682AEFB9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8179A0-4EBA-4A88-8C59-091A5F73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A3B9E6-2531-4C2F-9DCB-C34CD0CB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168CC6-17D8-4F2E-8344-2A589F07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651B5D-22D0-484B-97BF-068FDF6C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63BC06-503F-48C2-BCD0-8FAA4750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A5A47D-88BE-4034-A43F-9C5C5147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EF5AED-92E8-4CFF-88A8-2D512F24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A7FD78-CD43-4EC3-8258-E1456B3D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5DDC-B41F-495D-95B0-627E4EC5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F73E36-B0AB-44C4-ACE7-875AA721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654173-B337-4DEC-A4D7-DFE224DD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388BCB-3891-4FE1-97FE-E9098096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80A93F-0635-4C11-8A40-EEC469A3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3AC03B-77EA-4B73-B419-2480E521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8DB448-1042-42B3-8A0A-4CE50F96F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A47310-9D73-46A2-92C4-741692594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11FF11-18FA-4DD0-A469-B5849B1E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D457A0-744B-46BF-B192-94588EF0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27A5E0-F35F-42AD-A036-6F6176CB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CCDA-F569-4D4C-8119-9D632025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3ACEF9-D4FA-4A98-AC7E-1CE4AC94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608EC3-FDCB-4BE2-9DDE-7FE48E0A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E41D73-815F-4062-863D-F94CBFFF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96005D-B3B5-44E9-9DDE-B02C223F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A18F24-2136-464D-A5E5-FC3A145F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A0A6A5-00F0-4036-B624-DB5A226A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52F581-F82D-4A0E-BD8D-3D1B9C7C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1DE296-2326-4C24-906C-BCF25B2E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C6A2D7-92E8-4408-B3F8-A9976E0F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926143-4EA3-46B0-B9E7-26026AC5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4078-64C6-4B79-992A-96ABB3B2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38FA60-B94E-42F5-B116-8DABC587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D31BF8-5072-423D-983D-DB11525C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B0FB26-F9EE-4019-BFD7-024FB105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87DFCE-DD6C-4CA9-8D96-166C37A2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B2F7C4-CFE5-477A-8834-570F90AC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DAA33E-545D-4F73-BBD6-1A253D7C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693649-A3DA-4308-BFE9-4C99EFF0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31DDE8-6AAF-4015-8CE1-D71474C9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FB99AB-371C-4316-9BAA-BC651505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CB67C8-046A-484D-B311-377551B6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3007-996A-433B-A04A-F3F521BC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45668D-1E05-4EF8-8A72-02D7D090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1B320E-802A-41DA-9B7F-FE115DBC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4009A4-20D0-4E77-9030-B09EC491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B096BE-A8FE-4853-BF1F-C71905DB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899015-3877-424B-9A10-C8A5736A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7E47B5-6644-4D05-9585-DC7F4670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D66D86-65FA-4C4E-BB6A-36D10844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9E4224-336D-4BA6-9951-8757992E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B47964-5AE7-4E94-A2F6-EC0C032F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EFF060-971C-4492-B9A4-61ABBB05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2A6BB-2B8A-4A87-8A3A-80278827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ABDF89-C38A-40AA-8B12-EDD8F792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5D0442-16BA-4A3D-B839-5A045D22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EBB222-294C-431E-9A40-A3D2D02D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DCAF15-9F58-4A03-A92D-2FF64738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0238D7-A62A-4B5D-9D17-32AF4608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CA4710-5A90-4471-8302-F92AB57F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8F539E-DE5C-4B48-B648-80E3AE7E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9ABB05-F488-42A6-BE8E-1A4E7329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AB9C79-DB3D-4612-8D76-D3DF41A1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B359CD-DCB5-482C-AF1A-4864C9AA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50210-9152-4CAC-B969-F3218274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BB72A2-1126-4035-9B8B-377903A2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025592-BF98-472B-B30B-ADB7A22D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853414-1319-4DBA-8133-57B4CB07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9FBFB7-0AD3-4967-8AE9-3BB64673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7D0A9E-73F9-46DD-AFBC-3C1F9D91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5A70B7-A8CF-41B4-9238-5873C93C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715DED-ECDD-4F65-9636-9206E6B2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263479-D7BA-4609-9CD4-5118D7BF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00FDDB-E7E9-48B6-9F6D-ABE8E2E7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377E4B-C617-485F-A31A-62688030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DFEEE-5489-4462-8EA2-09002233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2ADE13-2A5F-4065-BDEB-478DBC71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6C5441-AC51-4428-BFEC-B7942659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55993B-FFFB-41A8-A5D0-076825FD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425594-4132-4F7D-8CA2-A61ABDC2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135290-BF95-4B0C-90F4-0B7FCC16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38EE16-D025-4748-9D6B-4ED8E0FF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42F9E9-DF08-4E06-87C2-DB3D067E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C2D1BE-0037-4D0E-9A29-D9FF2B2C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4A962D-7AA1-47EE-A40A-9A50AE31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0ACD75-A89C-4CE1-B430-551FCBC2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55752-8F18-404C-83E4-9132E387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A9B1C8-D01F-4EA8-B478-282F505A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1D13EF-6B54-4777-9C2C-546C05CC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848B5B-4B6D-43CF-B3EB-29F9F8E3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09834A-6918-4A9D-A722-68BB0329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51672F-822D-4215-ABC5-6EE259CE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519F36-0E2B-44C4-9941-17FE9859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7E4798-0E0F-41AC-A244-E3B0B406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3FE435-D9E8-4E22-94E9-78A2A701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D40688-F32B-41B4-A183-F0FF3766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1B8CF2-A8D4-452A-801E-C91C74B9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F6F81-6A89-465A-8876-EF79706F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C61B05-279F-4BEA-B0A0-28C08DB3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CA475C-8D55-4B9A-9456-01833CC2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825DAD-7C35-4CB2-992D-E542303D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8E56EE-01DD-4EAB-BB04-86E0DFC6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773E70-70B9-4603-97A1-97E9750B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AC26A2-A83F-4642-B8EC-5D3B8AAC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F68133-C5C6-4312-B0E7-4BC95DF9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43D37B-6517-47AD-9E80-A1004A80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046043-414F-4012-A110-69E75E7E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49DDCE-5A6F-49D7-A072-D7E0C9F8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0147-98F8-4A82-AEFE-ADB7F806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237EE-A2A6-49F9-9BB8-3E367925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9BB80A-C690-40E2-9312-18DCEB8F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39AF77-47C2-4559-B2F7-EB012B3C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3003A3-EC56-42FB-A53A-7E5EBF77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716A58-379D-493B-917F-C5C15FF1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06F1CD-8019-4DB2-9937-66C30EDE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9D5223-74E4-4674-8289-58424725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B69539-CFBB-42DA-B9E0-6C4734A6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AD61C6-4778-4691-B5A9-F5999239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165109-84D9-49F9-8A56-A2EDEB31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1D8A5E-9985-4D96-AD81-FC78E8FA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FD9D6-79C8-4760-9988-5F5C0EBB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39016C-ECE7-4D92-A0DC-DBA7636E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2D127E-3836-4016-BA7A-89ED2BF8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53F1EA-5930-4CE0-B5AC-A4C42445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6C389E-0C9D-4C08-89FE-D6812C22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317BCB-09EC-4515-9132-F7B05E70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872C5E-75D6-45DA-9C1C-41EECB96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030FC4-CA0B-4BF4-B33E-95189549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36D35F-1BC0-4805-B1E5-1150F82D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DD3F18-10B3-4B49-A503-DDDA5EF3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8D314B-9505-4949-954F-15022815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D1690-A52E-4FAC-BB75-5A340A01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FAD9C2-49E7-4B8B-AC02-CF91B9E3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B429A3-A055-4BE9-9031-7E8E6C1E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CAFF0E-20CB-4F2B-B92D-D5AB6FDE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21C727C-B842-4F07-AE7F-C7A92EB4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A83506-A3D3-415C-A2D2-F7FDAF85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B05B74-5E7E-4985-8962-006BB958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E4AE40-387B-4184-9D20-22200B65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7FE90D-15C9-4D78-80FC-175ED038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09C3B4-838A-453C-ADC1-7DED6034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8C20C2-BD5D-428B-A463-61054F61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9E642-7F46-4816-9D73-711C464A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C053E9-70A4-4401-BE0E-07A423DC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CE3D4E-B202-440F-86AB-5DBA8E18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39D6FB-0301-43C0-BE76-C7BE8FF1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70CAA4-7406-4BF5-BEAE-292C39CA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0BA2C2-6C69-434B-BCA3-2B5C05C3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F6F023-7FC3-46B0-B505-ED4E0F26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32D50C-22F4-4012-A236-E27B9164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9262A9-D09F-4127-86D4-6779235B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15DC13-6B7A-4F2D-BA18-47BF7818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ACD509-3A96-4C7B-80EF-3F5DF385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97188-E38F-42FC-A61A-D9C8507B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980C9FF-0036-4246-8E80-8CC5DA87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5C967B1-12A2-4AAD-8926-E2922CF9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8BEB112-B650-45E8-A818-BC6DF867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8A4BA2-9F22-45BB-B92C-841BE3FC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F398525-FD0A-426E-800B-F416CC3C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5B3815-69AA-4D27-BB9E-E750CD6C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C1F320-BA5D-484A-98CB-2FE2BC18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001E20-A3C4-4FF4-8809-0B0A0903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3032D1-4BBA-462D-A4FF-C79B6808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F16DE36-B55B-4400-B97B-8DC6E52E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907FE-D525-493D-A7EF-53AC40D8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088B3E-9A95-4152-9578-92134A27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744A56-0318-477E-A589-932CC0E1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61BEA4-9F13-4620-9A23-C97A7DCE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31084C-8DC4-44CD-9778-00D214FE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9DBA77-C0DC-4BFF-87C9-B31EB923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6AEFA6-FEAA-4BA8-8753-46329738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497F6C-0B6E-4FB4-81FF-9315FA2A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2132F19-3E79-42DC-94A6-960BDEAE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983D723-DE1F-4C31-88FD-BAFC5E1D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9F295A-89BC-482B-B84B-E9D26621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66D40-E27D-4528-AC3D-3FA95EDC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C71CE0-3DCF-4384-A5E1-EC9256E9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5E2FE1-BB08-4F49-A8F9-1A0C311A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47B5B06-5042-4E29-B7DA-CE26D509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373F17C-58AD-49A5-997A-9F001568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A72181D-2293-426A-9887-9E75495F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08FC1F-D5A7-4A1F-B5E8-0FFE4895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937260-F7D2-4D75-91CD-7C0448FB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23A6544-99D1-4572-8006-E8526E14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E80E8D-63D1-421A-AF70-FA4B4B0B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6A3AC9-DA8A-413E-A4B1-17B2D018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D760C-6060-4A68-BF6D-6AF839AF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30045B-E5D4-4C04-BBF5-652117D3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754CA9F-38F6-4341-9038-9A0C886E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84B29F-86A3-43C3-A8DC-D09828FD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A1F5E-8D67-48DE-8543-1BBCC968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1C564-163A-42C3-B761-4588DAA1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F4A4-CABB-4103-A40C-A2829542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841DA-76DC-4898-AFC1-537C3E9B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8D054-8CAA-4A38-A465-9967D1FC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633DD-7E73-4237-9A11-985FF93C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6C6AC-9828-4A75-A7D4-6DF41797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D5F91-39DA-49CC-A9BA-64DFD331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F4CC6-7491-4ABB-9880-51923E95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D3513-E2A8-40AE-B736-43E2A51B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BF35D-793C-4012-8FAC-B192465C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F0905-6850-44C8-BA46-12286FB21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7DF05-D8AB-4040-B59C-B61B6A31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0DEA-E013-44EC-A08D-E52C8B11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6F0DB-EEE3-4D2C-853C-6CA604A7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B494B-1639-4BE6-A3CD-B5C2CFCF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0FFEB-FF72-4270-AD5C-B2CCE6F6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38859-B089-475D-B9AF-654B9428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AFF82-76EB-48F5-B9FB-77E1CF96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A90C7-3B7E-4647-8D20-3400E541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A1133-666C-4E81-99D1-55BC417A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0F117-B3C0-4B40-9FEF-7BD19FBB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D28F2-CD91-452E-9443-D9569598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F320F-C2E1-4AFE-80DB-F96C707D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BE98-DF41-476D-A303-7E971D77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5E5FD-37AF-4172-93FB-A296B8EB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39802-8016-48E7-8146-03C0DD21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0025E-7749-4545-87A8-F2A02806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3392F-DB09-41E5-9906-DF1BA89B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6CA71-E9FB-4B66-BF7D-9EC7C743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B5C71-3E1C-4530-8B7A-5458C485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A8D40-9F79-4885-B63D-333FA767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7DF96-46BC-4A04-9229-6E9BB57B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46899-ED6E-458B-8AA2-5C17B53B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B7460-DC23-410C-9D0A-7CDA686F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1D44-0DF2-4D6E-B055-07E0679B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E222B-20B7-4B74-B7D4-D1496613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B458D-6201-45CD-BCC3-E1CCD002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A434F-462E-41AF-BB7B-2A244EA4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37B4E-2010-4027-B13D-2EFFE759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ABA48-EE9F-49BE-A410-2477A9AC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15848-57D5-48AE-BFCE-F3CA9A2E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339C1-D093-41BE-983E-C3BDD7E0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DC6E7-0ECE-4DC6-9D41-5F718124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2475D-15C2-4DED-A23C-4F156151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1B5C9-7CAD-4C8D-BB97-D6F9C533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3D1A-5F47-4A30-A0E3-2D8778D4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F27D7-21AB-4E8B-B627-AAC80A90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38180-0109-4B69-98A5-BF28B839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8AEBC-6B81-4C78-9EA1-4A347743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50001-4DCE-4900-B983-3040F683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F1E69-CCB6-46DD-93A6-89437DF4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A468A-11E5-435D-B154-E61B7D0C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74705-4EC9-47A6-AB3A-4E9439E1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F5306-FEA2-4805-B78D-B7A6B1DA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EA207-2FE7-4840-87FA-9C4E0D36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D40BF-475F-4BFD-9156-CAEE96BD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7D3E-0156-4902-B114-0E7AACEB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24FE9-5C84-4F3B-BEB6-264C2199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A04BD-FC3D-4528-B2F0-E1C8BF40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8E9D6-7BD1-46DA-BAF5-BCFD5E04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5FC7B-2110-45B0-840F-7FAE050F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8D694-8EC6-4EA5-A8F8-CD2C7E0B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8DE5C-0164-4A2B-A8B4-C52AD15B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7AB53-6209-4865-91D8-A4A62C4A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6F645-A37C-4A71-8FD2-8955C587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15F17-C42C-40DB-A705-C3111E45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BF975-C3C6-4817-8DED-D9714EF9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C068-C55A-4CF7-99EE-0BBE0843EF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9852-727B-4C5E-8670-651739B512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E9EE-E150-4321-8C08-6CF1D663B6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2886-D640-46F1-942D-C369BB17D4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A325-A5FE-48E4-9ABA-34D6BE0A38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BA74-A55F-419B-B280-1345DE9576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CCBB-0C09-40E5-A347-DE87EDB7C2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8DAB-A5D8-4B6B-9CB7-ADD3CB2605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1BCA-D0E1-4EE3-95EF-6A11BD7B84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DB62-FF94-40D5-A468-E90E068184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CFB1-6204-41CE-B29A-060F5B98BF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CD14-8179-4862-93E7-C7D3DF7D3D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2382-B3E2-413A-BF91-6F971AC445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B0D3-90D6-484C-A6F1-A1C40C214A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A861-F0A4-446E-B7EE-4186FC9DA1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CF93-4D3D-46B8-ABC1-33D533C73A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B003-17DF-47B4-93F6-C2401EBFD0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C47A-60FE-4CCD-9712-C5ED03C5DB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0DBC-9734-44E2-97B5-2FD8369B81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448D-8D38-44A2-A5BC-10DD6ABFC8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4544-4B1E-450F-8AD2-C5A547F25B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0EB1-E620-4941-8E04-A414F03CA8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5C7C-8BBD-417E-8E12-56EBED54A7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61FD-2C39-406E-8F20-83B7D4F734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AFF4-65B6-4237-AFD7-C5AA678ED5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BC27-AE33-4FA4-8BD7-8B49596E12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4D26-9627-4CBA-AA9F-887D6FE433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EE8F-0DD8-4DDD-82B9-3CA97149F7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3402-63F2-469D-925A-069124BC9E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D660-A696-4A86-84B7-D783D649EB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D866-430B-4D7A-808F-A3B1A96674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40A1-726A-40DB-82E2-B1B3C640CE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075F-C43E-48E8-AFE6-A57E0DD63F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5D05-11C4-4D0F-BFBC-0C20E3AE41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2EBF-A787-42EA-AE3A-6B5E3AEFB1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E28D-66D5-44BE-8E7D-89B84707EF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F937-7589-4732-B975-C786A4F0FA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0D50-5644-4797-A6F5-C6F4B2CFA8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B797-D4E9-4FA9-9B61-C04E1259D3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1FEE-1FEB-45F6-AB9E-34654C2A13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F101-DE89-4B39-BB4A-6529101A5F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5E8B-CBDB-47DD-9D01-54D9B18679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7C20-CF00-4327-AE73-47E99D29F9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9A8A-25A8-4377-A183-7BD91E3FAD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5401-8DD0-4623-85FE-6B046BEAF0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EEA1-60CF-44E1-A70C-CC5D626DE8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24A7-0448-4C69-B95B-B0ECEDF0FF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CC37-AD15-4CA3-B3B7-7A1D1DE4C5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8E2C-FF13-41AA-9260-CF69EA0EAE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4B2B-CB8B-490A-958E-29A06CF490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028960" y="3147840"/>
            <a:ext cx="5086080" cy="5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116737" descr=""/>
          <p:cNvPicPr/>
          <p:nvPr/>
        </p:nvPicPr>
        <p:blipFill>
          <a:blip r:embed="rId1"/>
          <a:stretch/>
        </p:blipFill>
        <p:spPr>
          <a:xfrm>
            <a:off x="704880" y="1547640"/>
            <a:ext cx="7581960" cy="3800520"/>
          </a:xfrm>
          <a:prstGeom prst="rect">
            <a:avLst/>
          </a:prstGeom>
          <a:ln w="0">
            <a:noFill/>
          </a:ln>
        </p:spPr>
      </p:pic>
      <p:sp>
        <p:nvSpPr>
          <p:cNvPr id="1474" name="矩形 116738"/>
          <p:cNvSpPr/>
          <p:nvPr/>
        </p:nvSpPr>
        <p:spPr>
          <a:xfrm>
            <a:off x="988920" y="246384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16739"/>
          <p:cNvSpPr/>
          <p:nvPr/>
        </p:nvSpPr>
        <p:spPr>
          <a:xfrm>
            <a:off x="1027080" y="302580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6740"/>
          <p:cNvSpPr/>
          <p:nvPr/>
        </p:nvSpPr>
        <p:spPr>
          <a:xfrm>
            <a:off x="1036800" y="350208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6741"/>
          <p:cNvSpPr/>
          <p:nvPr/>
        </p:nvSpPr>
        <p:spPr>
          <a:xfrm>
            <a:off x="1017720" y="394020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6742"/>
          <p:cNvSpPr/>
          <p:nvPr/>
        </p:nvSpPr>
        <p:spPr>
          <a:xfrm>
            <a:off x="1036800" y="446400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16743"/>
          <p:cNvSpPr/>
          <p:nvPr/>
        </p:nvSpPr>
        <p:spPr>
          <a:xfrm>
            <a:off x="988920" y="493092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图片 115713" descr=""/>
          <p:cNvPicPr/>
          <p:nvPr/>
        </p:nvPicPr>
        <p:blipFill>
          <a:blip r:embed="rId1"/>
          <a:stretch/>
        </p:blipFill>
        <p:spPr>
          <a:xfrm>
            <a:off x="557280" y="871560"/>
            <a:ext cx="802944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图片 114689" descr=""/>
          <p:cNvPicPr/>
          <p:nvPr/>
        </p:nvPicPr>
        <p:blipFill>
          <a:blip r:embed="rId1"/>
          <a:stretch/>
        </p:blipFill>
        <p:spPr>
          <a:xfrm>
            <a:off x="728640" y="1576440"/>
            <a:ext cx="7515360" cy="2333520"/>
          </a:xfrm>
          <a:prstGeom prst="rect">
            <a:avLst/>
          </a:prstGeom>
          <a:ln w="0">
            <a:noFill/>
          </a:ln>
        </p:spPr>
      </p:pic>
      <p:pic>
        <p:nvPicPr>
          <p:cNvPr id="1482" name="图片 114690" descr=""/>
          <p:cNvPicPr/>
          <p:nvPr/>
        </p:nvPicPr>
        <p:blipFill>
          <a:blip r:embed="rId2"/>
          <a:stretch/>
        </p:blipFill>
        <p:spPr>
          <a:xfrm>
            <a:off x="712800" y="4071960"/>
            <a:ext cx="7505640" cy="1847880"/>
          </a:xfrm>
          <a:prstGeom prst="rect">
            <a:avLst/>
          </a:prstGeom>
          <a:ln w="0">
            <a:noFill/>
          </a:ln>
        </p:spPr>
      </p:pic>
      <p:sp>
        <p:nvSpPr>
          <p:cNvPr id="1483" name="矩形 114691"/>
          <p:cNvSpPr/>
          <p:nvPr/>
        </p:nvSpPr>
        <p:spPr>
          <a:xfrm>
            <a:off x="1074600" y="247320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14692"/>
          <p:cNvSpPr/>
          <p:nvPr/>
        </p:nvSpPr>
        <p:spPr>
          <a:xfrm>
            <a:off x="1131840" y="300672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14693"/>
          <p:cNvSpPr/>
          <p:nvPr/>
        </p:nvSpPr>
        <p:spPr>
          <a:xfrm>
            <a:off x="1065240" y="348300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14694"/>
          <p:cNvSpPr/>
          <p:nvPr/>
        </p:nvSpPr>
        <p:spPr>
          <a:xfrm>
            <a:off x="1170000" y="455940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14695"/>
          <p:cNvSpPr/>
          <p:nvPr/>
        </p:nvSpPr>
        <p:spPr>
          <a:xfrm>
            <a:off x="1112760" y="500688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114696"/>
          <p:cNvSpPr/>
          <p:nvPr/>
        </p:nvSpPr>
        <p:spPr>
          <a:xfrm>
            <a:off x="988920" y="547380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9" name="图片 113665" descr=""/>
          <p:cNvPicPr/>
          <p:nvPr/>
        </p:nvPicPr>
        <p:blipFill>
          <a:blip r:embed="rId1"/>
          <a:stretch/>
        </p:blipFill>
        <p:spPr>
          <a:xfrm>
            <a:off x="539640" y="779400"/>
            <a:ext cx="796284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0" name="图片 112641" descr=""/>
          <p:cNvPicPr/>
          <p:nvPr/>
        </p:nvPicPr>
        <p:blipFill>
          <a:blip r:embed="rId1"/>
          <a:stretch/>
        </p:blipFill>
        <p:spPr>
          <a:xfrm>
            <a:off x="642960" y="1200240"/>
            <a:ext cx="7534080" cy="2324160"/>
          </a:xfrm>
          <a:prstGeom prst="rect">
            <a:avLst/>
          </a:prstGeom>
          <a:ln w="0">
            <a:noFill/>
          </a:ln>
        </p:spPr>
      </p:pic>
      <p:pic>
        <p:nvPicPr>
          <p:cNvPr id="1491" name="图片 112642" descr=""/>
          <p:cNvPicPr/>
          <p:nvPr/>
        </p:nvPicPr>
        <p:blipFill>
          <a:blip r:embed="rId2"/>
          <a:stretch/>
        </p:blipFill>
        <p:spPr>
          <a:xfrm>
            <a:off x="689040" y="3652920"/>
            <a:ext cx="7572240" cy="2305080"/>
          </a:xfrm>
          <a:prstGeom prst="rect">
            <a:avLst/>
          </a:prstGeom>
          <a:ln w="0">
            <a:noFill/>
          </a:ln>
        </p:spPr>
      </p:pic>
      <p:sp>
        <p:nvSpPr>
          <p:cNvPr id="1492" name="矩形 112643"/>
          <p:cNvSpPr/>
          <p:nvPr/>
        </p:nvSpPr>
        <p:spPr>
          <a:xfrm>
            <a:off x="865080" y="213048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12644"/>
          <p:cNvSpPr/>
          <p:nvPr/>
        </p:nvSpPr>
        <p:spPr>
          <a:xfrm>
            <a:off x="941400" y="263520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12645"/>
          <p:cNvSpPr/>
          <p:nvPr/>
        </p:nvSpPr>
        <p:spPr>
          <a:xfrm>
            <a:off x="874800" y="310212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12646"/>
          <p:cNvSpPr/>
          <p:nvPr/>
        </p:nvSpPr>
        <p:spPr>
          <a:xfrm>
            <a:off x="941400" y="410220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12647"/>
          <p:cNvSpPr/>
          <p:nvPr/>
        </p:nvSpPr>
        <p:spPr>
          <a:xfrm>
            <a:off x="903240" y="458784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12648"/>
          <p:cNvSpPr/>
          <p:nvPr/>
        </p:nvSpPr>
        <p:spPr>
          <a:xfrm>
            <a:off x="893880" y="5092560"/>
            <a:ext cx="7385040" cy="4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12649"/>
          <p:cNvSpPr/>
          <p:nvPr/>
        </p:nvSpPr>
        <p:spPr>
          <a:xfrm>
            <a:off x="912960" y="554040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9" name="图片 111617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572240" cy="2867040"/>
          </a:xfrm>
          <a:prstGeom prst="rect">
            <a:avLst/>
          </a:prstGeom>
          <a:ln w="0">
            <a:noFill/>
          </a:ln>
        </p:spPr>
      </p:pic>
      <p:sp>
        <p:nvSpPr>
          <p:cNvPr id="1500" name="矩形 111618"/>
          <p:cNvSpPr/>
          <p:nvPr/>
        </p:nvSpPr>
        <p:spPr>
          <a:xfrm>
            <a:off x="865080" y="254952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11619"/>
          <p:cNvSpPr/>
          <p:nvPr/>
        </p:nvSpPr>
        <p:spPr>
          <a:xfrm>
            <a:off x="922320" y="3016080"/>
            <a:ext cx="7385040" cy="4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矩形 111620"/>
          <p:cNvSpPr/>
          <p:nvPr/>
        </p:nvSpPr>
        <p:spPr>
          <a:xfrm>
            <a:off x="1036800" y="352116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111621"/>
          <p:cNvSpPr/>
          <p:nvPr/>
        </p:nvSpPr>
        <p:spPr>
          <a:xfrm>
            <a:off x="979560" y="395928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矩形 111622"/>
          <p:cNvSpPr/>
          <p:nvPr/>
        </p:nvSpPr>
        <p:spPr>
          <a:xfrm>
            <a:off x="846000" y="449280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30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353440" cy="5524560"/>
          </a:xfrm>
          <a:prstGeom prst="rect">
            <a:avLst/>
          </a:prstGeom>
          <a:ln w="0">
            <a:noFill/>
          </a:ln>
        </p:spPr>
      </p:pic>
      <p:sp>
        <p:nvSpPr>
          <p:cNvPr id="1434" name="矩形 124931"/>
          <p:cNvSpPr/>
          <p:nvPr/>
        </p:nvSpPr>
        <p:spPr>
          <a:xfrm>
            <a:off x="2411280" y="1916280"/>
            <a:ext cx="73188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矩形 124932"/>
          <p:cNvSpPr/>
          <p:nvPr/>
        </p:nvSpPr>
        <p:spPr>
          <a:xfrm>
            <a:off x="5678640" y="1906560"/>
            <a:ext cx="73152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3"/>
          <p:cNvSpPr/>
          <p:nvPr/>
        </p:nvSpPr>
        <p:spPr>
          <a:xfrm>
            <a:off x="2878200" y="2583000"/>
            <a:ext cx="73188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4"/>
          <p:cNvSpPr/>
          <p:nvPr/>
        </p:nvSpPr>
        <p:spPr>
          <a:xfrm>
            <a:off x="4992840" y="3268800"/>
            <a:ext cx="117000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5"/>
          <p:cNvSpPr/>
          <p:nvPr/>
        </p:nvSpPr>
        <p:spPr>
          <a:xfrm>
            <a:off x="2192400" y="3611520"/>
            <a:ext cx="73188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6"/>
          <p:cNvSpPr/>
          <p:nvPr/>
        </p:nvSpPr>
        <p:spPr>
          <a:xfrm>
            <a:off x="4592520" y="3944880"/>
            <a:ext cx="73188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4937"/>
          <p:cNvSpPr/>
          <p:nvPr/>
        </p:nvSpPr>
        <p:spPr>
          <a:xfrm>
            <a:off x="6059520" y="3944880"/>
            <a:ext cx="81756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4938"/>
          <p:cNvSpPr/>
          <p:nvPr/>
        </p:nvSpPr>
        <p:spPr>
          <a:xfrm>
            <a:off x="7840800" y="4611600"/>
            <a:ext cx="73188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4939"/>
          <p:cNvSpPr/>
          <p:nvPr/>
        </p:nvSpPr>
        <p:spPr>
          <a:xfrm>
            <a:off x="1077840" y="5640480"/>
            <a:ext cx="73188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4940"/>
          <p:cNvSpPr/>
          <p:nvPr/>
        </p:nvSpPr>
        <p:spPr>
          <a:xfrm>
            <a:off x="7716960" y="5983200"/>
            <a:ext cx="73188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123905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344080" cy="4876560"/>
          </a:xfrm>
          <a:prstGeom prst="rect">
            <a:avLst/>
          </a:prstGeom>
          <a:ln w="0">
            <a:noFill/>
          </a:ln>
        </p:spPr>
      </p:pic>
      <p:sp>
        <p:nvSpPr>
          <p:cNvPr id="1445" name="矩形 123906"/>
          <p:cNvSpPr/>
          <p:nvPr/>
        </p:nvSpPr>
        <p:spPr>
          <a:xfrm>
            <a:off x="8237520" y="2257560"/>
            <a:ext cx="30816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3907"/>
          <p:cNvSpPr/>
          <p:nvPr/>
        </p:nvSpPr>
        <p:spPr>
          <a:xfrm>
            <a:off x="8209080" y="4638600"/>
            <a:ext cx="30780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122881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372520" cy="5438880"/>
          </a:xfrm>
          <a:prstGeom prst="rect">
            <a:avLst/>
          </a:prstGeom>
          <a:ln w="0">
            <a:noFill/>
          </a:ln>
        </p:spPr>
      </p:pic>
      <p:sp>
        <p:nvSpPr>
          <p:cNvPr id="1448" name="矩形 122882"/>
          <p:cNvSpPr/>
          <p:nvPr/>
        </p:nvSpPr>
        <p:spPr>
          <a:xfrm>
            <a:off x="8228160" y="2838600"/>
            <a:ext cx="30780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22883"/>
          <p:cNvSpPr/>
          <p:nvPr/>
        </p:nvSpPr>
        <p:spPr>
          <a:xfrm>
            <a:off x="8190000" y="4581360"/>
            <a:ext cx="307800" cy="32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121857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353440" cy="5305320"/>
          </a:xfrm>
          <a:prstGeom prst="rect">
            <a:avLst/>
          </a:prstGeom>
          <a:ln w="0">
            <a:noFill/>
          </a:ln>
        </p:spPr>
      </p:pic>
      <p:sp>
        <p:nvSpPr>
          <p:cNvPr id="1451" name="矩形 121858"/>
          <p:cNvSpPr/>
          <p:nvPr/>
        </p:nvSpPr>
        <p:spPr>
          <a:xfrm>
            <a:off x="8218440" y="1847880"/>
            <a:ext cx="30816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121859"/>
          <p:cNvSpPr/>
          <p:nvPr/>
        </p:nvSpPr>
        <p:spPr>
          <a:xfrm>
            <a:off x="8218440" y="4533840"/>
            <a:ext cx="30816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120833" descr=""/>
          <p:cNvPicPr/>
          <p:nvPr/>
        </p:nvPicPr>
        <p:blipFill>
          <a:blip r:embed="rId1"/>
          <a:stretch/>
        </p:blipFill>
        <p:spPr>
          <a:xfrm>
            <a:off x="347760" y="765000"/>
            <a:ext cx="8343720" cy="5743800"/>
          </a:xfrm>
          <a:prstGeom prst="rect">
            <a:avLst/>
          </a:prstGeom>
          <a:ln w="0">
            <a:noFill/>
          </a:ln>
        </p:spPr>
      </p:pic>
      <p:sp>
        <p:nvSpPr>
          <p:cNvPr id="1454" name="矩形 120834"/>
          <p:cNvSpPr/>
          <p:nvPr/>
        </p:nvSpPr>
        <p:spPr>
          <a:xfrm>
            <a:off x="8142120" y="1476360"/>
            <a:ext cx="30816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120835"/>
          <p:cNvSpPr/>
          <p:nvPr/>
        </p:nvSpPr>
        <p:spPr>
          <a:xfrm>
            <a:off x="8161200" y="3209760"/>
            <a:ext cx="308160" cy="32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120836"/>
          <p:cNvSpPr/>
          <p:nvPr/>
        </p:nvSpPr>
        <p:spPr>
          <a:xfrm>
            <a:off x="8151840" y="4848120"/>
            <a:ext cx="30780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119809" descr=""/>
          <p:cNvPicPr/>
          <p:nvPr/>
        </p:nvPicPr>
        <p:blipFill>
          <a:blip r:embed="rId1"/>
          <a:stretch/>
        </p:blipFill>
        <p:spPr>
          <a:xfrm>
            <a:off x="376200" y="700200"/>
            <a:ext cx="8372520" cy="6048360"/>
          </a:xfrm>
          <a:prstGeom prst="rect">
            <a:avLst/>
          </a:prstGeom>
          <a:ln w="0">
            <a:noFill/>
          </a:ln>
        </p:spPr>
      </p:pic>
      <p:sp>
        <p:nvSpPr>
          <p:cNvPr id="1458" name="矩形 119810"/>
          <p:cNvSpPr/>
          <p:nvPr/>
        </p:nvSpPr>
        <p:spPr>
          <a:xfrm>
            <a:off x="8209080" y="1704960"/>
            <a:ext cx="30780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119811"/>
          <p:cNvSpPr/>
          <p:nvPr/>
        </p:nvSpPr>
        <p:spPr>
          <a:xfrm>
            <a:off x="8209080" y="3000240"/>
            <a:ext cx="307800" cy="32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图片 118785" descr=""/>
          <p:cNvPicPr/>
          <p:nvPr/>
        </p:nvPicPr>
        <p:blipFill>
          <a:blip r:embed="rId1"/>
          <a:stretch/>
        </p:blipFill>
        <p:spPr>
          <a:xfrm>
            <a:off x="581040" y="1066680"/>
            <a:ext cx="79819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117761" descr=""/>
          <p:cNvPicPr/>
          <p:nvPr/>
        </p:nvPicPr>
        <p:blipFill>
          <a:blip r:embed="rId1"/>
          <a:stretch/>
        </p:blipFill>
        <p:spPr>
          <a:xfrm>
            <a:off x="684360" y="826920"/>
            <a:ext cx="7581600" cy="5686560"/>
          </a:xfrm>
          <a:prstGeom prst="rect">
            <a:avLst/>
          </a:prstGeom>
          <a:ln w="0">
            <a:noFill/>
          </a:ln>
        </p:spPr>
      </p:pic>
      <p:sp>
        <p:nvSpPr>
          <p:cNvPr id="1462" name="矩形 117762"/>
          <p:cNvSpPr/>
          <p:nvPr/>
        </p:nvSpPr>
        <p:spPr>
          <a:xfrm>
            <a:off x="1217520" y="129240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17763"/>
          <p:cNvSpPr/>
          <p:nvPr/>
        </p:nvSpPr>
        <p:spPr>
          <a:xfrm>
            <a:off x="1122480" y="175896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17764"/>
          <p:cNvSpPr/>
          <p:nvPr/>
        </p:nvSpPr>
        <p:spPr>
          <a:xfrm>
            <a:off x="1074600" y="229248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17765"/>
          <p:cNvSpPr/>
          <p:nvPr/>
        </p:nvSpPr>
        <p:spPr>
          <a:xfrm>
            <a:off x="941400" y="273996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17766"/>
          <p:cNvSpPr/>
          <p:nvPr/>
        </p:nvSpPr>
        <p:spPr>
          <a:xfrm>
            <a:off x="1055520" y="321624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17767"/>
          <p:cNvSpPr/>
          <p:nvPr/>
        </p:nvSpPr>
        <p:spPr>
          <a:xfrm>
            <a:off x="979560" y="374976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117768"/>
          <p:cNvSpPr/>
          <p:nvPr/>
        </p:nvSpPr>
        <p:spPr>
          <a:xfrm>
            <a:off x="1008000" y="419724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17769"/>
          <p:cNvSpPr/>
          <p:nvPr/>
        </p:nvSpPr>
        <p:spPr>
          <a:xfrm>
            <a:off x="1093680" y="466416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7770"/>
          <p:cNvSpPr/>
          <p:nvPr/>
        </p:nvSpPr>
        <p:spPr>
          <a:xfrm>
            <a:off x="1103400" y="516888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7771"/>
          <p:cNvSpPr/>
          <p:nvPr/>
        </p:nvSpPr>
        <p:spPr>
          <a:xfrm>
            <a:off x="1122480" y="570240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7772"/>
          <p:cNvSpPr/>
          <p:nvPr/>
        </p:nvSpPr>
        <p:spPr>
          <a:xfrm>
            <a:off x="1065240" y="613080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14T01:19:04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